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1C2-DE6B-4911-8DC6-1E61A0A6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188-D2FC-4B90-BBAF-70901082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CB5-CDF3-4F16-9F79-C23A6D03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E37-EDBA-4FD4-AF84-9E29CBF8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072-6B5A-4120-8A84-21377926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8E2-74CD-4EE4-A0BD-7938577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0C3-23A0-420C-9EB6-F18827AE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E1F-B7AC-47C0-9620-F436890E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732-4929-4C42-9BD5-F1E97D7B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8A6-4F93-40DD-8C58-851E5494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740-71C1-428E-B3A9-974BF50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68B-0B1F-4BF8-8520-3A3280E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BE9D-D1EC-47BF-AE5A-22A900A115E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標楷體"/>
              </a:rPr>
              <a:t>新詩創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51460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——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用喻解法變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名師名詩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蛛網　　余光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暮色是一只詭異的蜘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躡水而來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復足暗暗地起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平靜的海面卻不見蹤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也不知要向何處登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只知道一回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你我都已被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d4d4d"/>
                </a:solidFill>
                <a:latin typeface="Times New Roman"/>
                <a:ea typeface="標楷體"/>
              </a:rPr>
              <a:t>落進它吐不完的灰網裡去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576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蜘蛛網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2494080" cy="37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4348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蜘蛛網01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9718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　　</a:t>
            </a:r>
            <a:r>
              <a:rPr b="1" lang="zh-TW" sz="4400" spc="-1" strike="noStrike">
                <a:solidFill>
                  <a:srgbClr val="a50021"/>
                </a:solidFill>
                <a:latin typeface="Arial"/>
                <a:ea typeface="標楷體"/>
              </a:rPr>
              <a:t>打雷　</a:t>
            </a:r>
            <a:r>
              <a:rPr b="0" lang="zh-TW" sz="3200" spc="-1" strike="noStrike">
                <a:solidFill>
                  <a:srgbClr val="a50021"/>
                </a:solidFill>
                <a:latin typeface="Arial"/>
                <a:ea typeface="標楷體"/>
              </a:rPr>
              <a:t>張水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超世紀中顏楷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超世紀中顏楷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爸爸生氣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像打雷一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老師生氣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比雷聲還要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真嚇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67200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62760" y="1341360"/>
            <a:ext cx="1752480" cy="237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4005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　　</a:t>
            </a:r>
            <a:r>
              <a:rPr b="1" lang="zh-TW" sz="4800" spc="-1" strike="noStrike">
                <a:solidFill>
                  <a:srgbClr val="660033"/>
                </a:solidFill>
                <a:latin typeface="Arial"/>
                <a:ea typeface="標楷體"/>
              </a:rPr>
              <a:t>尺　</a:t>
            </a:r>
            <a:r>
              <a:rPr b="1" lang="zh-TW" sz="3600" spc="-1" strike="noStrike">
                <a:solidFill>
                  <a:srgbClr val="660033"/>
                </a:solidFill>
                <a:latin typeface="Arial"/>
                <a:ea typeface="標楷體"/>
              </a:rPr>
              <a:t>陳錦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554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超世紀中仿宋"/>
              </a:rPr>
              <a:t>　　</a:t>
            </a:r>
            <a:r>
              <a:rPr b="1" lang="zh-TW" sz="3600" spc="-1" strike="noStrike">
                <a:solidFill>
                  <a:srgbClr val="990033"/>
                </a:solidFill>
                <a:latin typeface="Arial"/>
                <a:ea typeface="標楷體"/>
              </a:rPr>
              <a:t>尺是忠厚的小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Arial"/>
                <a:ea typeface="標楷體"/>
              </a:rPr>
              <a:t>　　總是走直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Arial"/>
                <a:ea typeface="標楷體"/>
              </a:rPr>
              <a:t>　　不走歪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4824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112500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8000"/>
                </a:solidFill>
                <a:latin typeface="Arial"/>
                <a:ea typeface="標楷體"/>
              </a:rPr>
              <a:t>我的肚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2276640"/>
            <a:ext cx="5410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我的肚皮是深深的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可以裝下所有我愛吃的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我的肚皮也是淺淺的水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  <a:ea typeface="標楷體"/>
              </a:rPr>
              <a:t>一個小秘密都容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107928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340000" y="5067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932360" y="5734080"/>
            <a:ext cx="107964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380360" y="378936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308720" y="404640"/>
            <a:ext cx="1582920" cy="137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50920" y="198900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1332000" y="342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16436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1332000" y="5086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1403280" y="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7812000" y="2492280"/>
            <a:ext cx="1042920" cy="744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4788000" y="90792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8172360" y="5821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395280" y="5805360"/>
            <a:ext cx="1081080" cy="77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tretch/>
        </p:blipFill>
        <p:spPr>
          <a:xfrm>
            <a:off x="4284720" y="479736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6516720" y="222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3348000" y="498600"/>
            <a:ext cx="1008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16:01:58Z</dcterms:created>
  <dc:creator>y</dc:creator>
  <dc:description/>
  <dc:language>en-US</dc:language>
  <cp:lastModifiedBy>Yanni</cp:lastModifiedBy>
  <dcterms:modified xsi:type="dcterms:W3CDTF">2011-02-10T10:42:58Z</dcterms:modified>
  <cp:revision>15</cp:revision>
  <dc:subject/>
  <dc:title>投影片 1</dc:title>
</cp:coreProperties>
</file>