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8.wmf" ContentType="image/x-wmf"/>
  <Override PartName="/ppt/media/image11.wmf" ContentType="image/x-wmf"/>
  <Override PartName="/ppt/media/image6.wmf" ContentType="image/x-wmf"/>
  <Override PartName="/ppt/media/image15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18D-AC5D-4475-9CE6-BF8E83CF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704-973D-457F-A471-CA8D29B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D02-697A-4D90-9066-8BBF233E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690-7BC3-4C57-8333-43279023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ADF-98B9-4229-A4AD-02240422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EAB-895E-47D6-A690-13CCD9B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F5E-0EEA-4334-A1EF-1931A5A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79CB-04B4-4269-8808-79C176BB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D396-E090-421C-9AE3-BE3385B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2166-79B6-4136-99FD-E180E341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204-9277-42FF-B7BB-16612C7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B9F-CA48-4C70-BD35-0B2177F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17D-16D6-4991-B3D3-9F0DC98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440-279C-45AC-9D6F-D0E686C6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83D9-247B-477B-AE67-4DA8DEE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6CF0-12CF-4760-BDC5-6CF13C44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ADB-659A-47B6-B2CC-8014C6C5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DB0-969E-4F21-A9C0-8AF7B71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27C-512B-4E70-BBE3-2E37500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891-08B5-4FAA-84AB-36D18F6A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1E2-08CD-40E2-9F8F-25D41A71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5C1-124E-4940-9CC1-E7A2787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6CB-D65D-4E6D-87E5-0E9FECE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2A6-CEAF-413E-8786-3E516C5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D0A-557C-4929-A335-7DCA45BBCFDC}" type="slidenum"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7277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334-9462-48B8-A460-4124CFE53349}" type="slidenum">
              <a:rPr b="0" lang="zh-TW" sz="1400" spc="-1" strike="noStrike">
                <a:solidFill>
                  <a:srgbClr val="27277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3357360"/>
            <a:ext cx="77756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272776"/>
                </a:solidFill>
                <a:latin typeface="Century Gothic"/>
                <a:ea typeface="標楷體"/>
              </a:rPr>
              <a:t>提問技巧的優化－－</a:t>
            </a:r>
            <a:br>
              <a:rPr sz="4800"/>
            </a:br>
            <a:r>
              <a:rPr b="1" lang="zh-TW" sz="4800" spc="-1" strike="noStrike">
                <a:solidFill>
                  <a:srgbClr val="272776"/>
                </a:solidFill>
                <a:latin typeface="Century Gothic"/>
                <a:ea typeface="標楷體"/>
              </a:rPr>
              <a:t>提升學與教效能的鑰匙</a:t>
            </a:r>
            <a:br>
              <a:rPr sz="4800"/>
            </a:b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907920"/>
            <a:ext cx="4608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Times New Roman"/>
              </a:rPr>
              <a:t>聖公會主愛小學</a:t>
            </a:r>
            <a:endParaRPr b="0" lang="en-US" sz="4400" spc="-1" strike="noStrike">
              <a:solidFill>
                <a:srgbClr val="27277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TW" sz="4000" spc="-1" strike="noStrike">
                <a:solidFill>
                  <a:srgbClr val="ff0066"/>
                </a:solidFill>
                <a:latin typeface="Times New Roman"/>
              </a:rPr>
              <a:t>課堂學習研究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564000" y="1268280"/>
            <a:ext cx="5329080" cy="511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1.</a:t>
            </a:r>
            <a:r>
              <a:rPr b="1" lang="en-US" sz="30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 </a:t>
            </a:r>
            <a:r>
              <a:rPr b="1" lang="zh-TW" sz="30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學生一般毛病：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答案不完整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太簡短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欠闡釋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見解粗淺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欠充分理由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. </a:t>
            </a:r>
            <a:r>
              <a:rPr b="1" lang="zh-TW" sz="30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誘導技巧：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39640" y="333360"/>
            <a:ext cx="4969080" cy="5688000"/>
            <a:chOff x="539640" y="333360"/>
            <a:chExt cx="4969080" cy="5688000"/>
          </a:xfrm>
        </p:grpSpPr>
        <p:sp>
          <p:nvSpPr>
            <p:cNvPr id="187" name=""/>
            <p:cNvSpPr/>
            <p:nvPr/>
          </p:nvSpPr>
          <p:spPr>
            <a:xfrm>
              <a:off x="3203640" y="4435560"/>
              <a:ext cx="360360" cy="1440"/>
            </a:xfrm>
            <a:prstGeom prst="line">
              <a:avLst/>
            </a:prstGeom>
            <a:ln w="349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cxnSp>
          <p:nvCxnSpPr>
            <p:cNvPr id="188" name="_s218118"/>
            <p:cNvCxnSpPr/>
            <p:nvPr/>
          </p:nvCxnSpPr>
          <p:spPr>
            <a:xfrm rot="10800000">
              <a:off x="683640" y="1556640"/>
              <a:ext cx="2105640" cy="40791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89" name="_s218119"/>
            <p:cNvCxnSpPr/>
            <p:nvPr/>
          </p:nvCxnSpPr>
          <p:spPr>
            <a:xfrm rot="10800000">
              <a:off x="683640" y="1340640"/>
              <a:ext cx="2105640" cy="308844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90" name="_s218120"/>
            <p:cNvCxnSpPr/>
            <p:nvPr/>
          </p:nvCxnSpPr>
          <p:spPr>
            <a:xfrm rot="10800000">
              <a:off x="683640" y="1124640"/>
              <a:ext cx="2105640" cy="209628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91" name="_s218121"/>
            <p:cNvCxnSpPr/>
            <p:nvPr/>
          </p:nvCxnSpPr>
          <p:spPr>
            <a:xfrm rot="10800000">
              <a:off x="683640" y="835920"/>
              <a:ext cx="2105640" cy="11055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sp>
          <p:nvSpPr>
            <p:cNvPr id="192" name="_s218122"/>
            <p:cNvSpPr/>
            <p:nvPr/>
          </p:nvSpPr>
          <p:spPr>
            <a:xfrm>
              <a:off x="539640" y="333360"/>
              <a:ext cx="496908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500" spc="-1" strike="noStrike">
                  <a:solidFill>
                    <a:srgbClr val="8b10c2"/>
                  </a:solidFill>
                  <a:latin typeface="Century Gothic"/>
                </a:rPr>
                <a:t>如何優化提問技巧</a:t>
              </a:r>
              <a:endParaRPr b="0" lang="en-US" sz="45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93" name="_s218123"/>
            <p:cNvSpPr/>
            <p:nvPr/>
          </p:nvSpPr>
          <p:spPr>
            <a:xfrm>
              <a:off x="1187280" y="148428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問什麼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94" name="_s218124"/>
            <p:cNvSpPr/>
            <p:nvPr/>
          </p:nvSpPr>
          <p:spPr>
            <a:xfrm>
              <a:off x="1187280" y="27813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怎樣問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95" name="_s218125"/>
            <p:cNvSpPr/>
            <p:nvPr/>
          </p:nvSpPr>
          <p:spPr>
            <a:xfrm>
              <a:off x="1187280" y="400860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00cc"/>
                  </a:solidFill>
                  <a:latin typeface="Century Gothic"/>
                </a:rPr>
                <a:t>如何誘導？</a:t>
              </a:r>
              <a:endParaRPr b="0" lang="en-US" sz="32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96" name="_s218126"/>
            <p:cNvSpPr/>
            <p:nvPr/>
          </p:nvSpPr>
          <p:spPr>
            <a:xfrm>
              <a:off x="1187280" y="51609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9966ff"/>
                  </a:solidFill>
                  <a:latin typeface="Century Gothic"/>
                </a:rPr>
                <a:t>如何處理學生</a:t>
              </a:r>
              <a:endParaRPr b="0" lang="en-US" sz="2800" spc="-1" strike="noStrike">
                <a:solidFill>
                  <a:srgbClr val="27277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9966ff"/>
                  </a:solidFill>
                  <a:latin typeface="Century Gothic"/>
                </a:rPr>
                <a:t>的回答？</a:t>
              </a:r>
              <a:endParaRPr b="0" lang="en-US" sz="28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156360" y="3429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989000"/>
            <a:ext cx="2376360" cy="947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ccff"/>
              </a:gs>
              <a:gs pos="100000">
                <a:srgbClr val="ff99ff"/>
              </a:gs>
            </a:gsLst>
            <a:lin ang="5400000"/>
          </a:gra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Century Gothic"/>
              </a:rPr>
              <a:t>鼓勵澄清回答</a:t>
            </a:r>
            <a:endParaRPr b="0" lang="en-US" sz="28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Century Gothic"/>
              </a:rPr>
              <a:t>的內容</a:t>
            </a:r>
            <a:endParaRPr b="0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3141720"/>
            <a:ext cx="2376360" cy="4597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ccff"/>
              </a:gs>
              <a:gs pos="100000">
                <a:srgbClr val="ff99ff"/>
              </a:gs>
            </a:gsLst>
            <a:lin ang="5400000"/>
          </a:gra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Century Gothic"/>
              </a:rPr>
              <a:t>擴展探究學生的回答，提升其答案的層次。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5373720"/>
            <a:ext cx="4392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提示、選擇、轉問、拆細問題、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追問、反問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060640"/>
            <a:ext cx="250920" cy="1079280"/>
          </a:xfrm>
          <a:custGeom>
            <a:avLst/>
            <a:gdLst>
              <a:gd name="textAreaLeft" fmla="*/ 0 w 250920"/>
              <a:gd name="textAreaRight" fmla="*/ 90720 w 250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8360" y="407664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7301"/>
                </a:moveTo>
                <a:lnTo>
                  <a:pt x="8355" y="7301"/>
                </a:lnTo>
                <a:lnTo>
                  <a:pt x="8738" y="7667"/>
                </a:lnTo>
                <a:lnTo>
                  <a:pt x="17947" y="7667"/>
                </a:lnTo>
                <a:lnTo>
                  <a:pt x="18504" y="8224"/>
                </a:lnTo>
                <a:lnTo>
                  <a:pt x="18504" y="8772"/>
                </a:lnTo>
                <a:lnTo>
                  <a:pt x="20349" y="8772"/>
                </a:lnTo>
                <a:lnTo>
                  <a:pt x="20715" y="8224"/>
                </a:lnTo>
                <a:lnTo>
                  <a:pt x="21454" y="8224"/>
                </a:lnTo>
                <a:lnTo>
                  <a:pt x="21454" y="13376"/>
                </a:lnTo>
                <a:lnTo>
                  <a:pt x="20715" y="13376"/>
                </a:lnTo>
                <a:lnTo>
                  <a:pt x="20349" y="12828"/>
                </a:lnTo>
                <a:lnTo>
                  <a:pt x="18504" y="12828"/>
                </a:lnTo>
                <a:lnTo>
                  <a:pt x="18504" y="14107"/>
                </a:lnTo>
                <a:lnTo>
                  <a:pt x="8921" y="14107"/>
                </a:lnTo>
                <a:lnTo>
                  <a:pt x="8921" y="9877"/>
                </a:lnTo>
                <a:lnTo>
                  <a:pt x="8738" y="9877"/>
                </a:lnTo>
                <a:lnTo>
                  <a:pt x="8355" y="10243"/>
                </a:lnTo>
                <a:lnTo>
                  <a:pt x="7441" y="1024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539640" y="333360"/>
            <a:ext cx="4969080" cy="5688000"/>
            <a:chOff x="539640" y="333360"/>
            <a:chExt cx="4969080" cy="5688000"/>
          </a:xfrm>
        </p:grpSpPr>
        <p:cxnSp>
          <p:nvCxnSpPr>
            <p:cNvPr id="204" name="_s219140"/>
            <p:cNvCxnSpPr/>
            <p:nvPr/>
          </p:nvCxnSpPr>
          <p:spPr>
            <a:xfrm rot="10800000">
              <a:off x="683640" y="1556640"/>
              <a:ext cx="2105640" cy="40791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205" name="_s219141"/>
            <p:cNvCxnSpPr/>
            <p:nvPr/>
          </p:nvCxnSpPr>
          <p:spPr>
            <a:xfrm rot="10800000">
              <a:off x="683640" y="1340640"/>
              <a:ext cx="2105640" cy="308844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206" name="_s219142"/>
            <p:cNvCxnSpPr/>
            <p:nvPr/>
          </p:nvCxnSpPr>
          <p:spPr>
            <a:xfrm rot="10800000">
              <a:off x="683640" y="1124640"/>
              <a:ext cx="2105640" cy="209628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207" name="_s219143"/>
            <p:cNvCxnSpPr/>
            <p:nvPr/>
          </p:nvCxnSpPr>
          <p:spPr>
            <a:xfrm rot="10800000">
              <a:off x="683640" y="835920"/>
              <a:ext cx="2105640" cy="11055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sp>
          <p:nvSpPr>
            <p:cNvPr id="208" name="_s219144"/>
            <p:cNvSpPr/>
            <p:nvPr/>
          </p:nvSpPr>
          <p:spPr>
            <a:xfrm>
              <a:off x="539640" y="333360"/>
              <a:ext cx="496908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500" spc="-1" strike="noStrike">
                  <a:solidFill>
                    <a:srgbClr val="8b10c2"/>
                  </a:solidFill>
                  <a:latin typeface="Century Gothic"/>
                </a:rPr>
                <a:t>如何優化提問技巧</a:t>
              </a:r>
              <a:endParaRPr b="0" lang="en-US" sz="45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209" name="_s219145"/>
            <p:cNvSpPr/>
            <p:nvPr/>
          </p:nvSpPr>
          <p:spPr>
            <a:xfrm>
              <a:off x="1187280" y="148428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問什麼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210" name="_s219146"/>
            <p:cNvSpPr/>
            <p:nvPr/>
          </p:nvSpPr>
          <p:spPr>
            <a:xfrm>
              <a:off x="1187280" y="27813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怎樣問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211" name="_s219147"/>
            <p:cNvSpPr/>
            <p:nvPr/>
          </p:nvSpPr>
          <p:spPr>
            <a:xfrm>
              <a:off x="1187280" y="400860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如何誘導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212" name="_s219148"/>
            <p:cNvSpPr/>
            <p:nvPr/>
          </p:nvSpPr>
          <p:spPr>
            <a:xfrm>
              <a:off x="1187280" y="51609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00cc"/>
                  </a:solidFill>
                  <a:latin typeface="Century Gothic"/>
                </a:rPr>
                <a:t>如何處理學生</a:t>
              </a:r>
              <a:endParaRPr b="0" lang="en-US" sz="3200" spc="-1" strike="noStrike">
                <a:solidFill>
                  <a:srgbClr val="27277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00cc"/>
                  </a:solidFill>
                  <a:latin typeface="Century Gothic"/>
                </a:rPr>
                <a:t>的回答？</a:t>
              </a:r>
              <a:endParaRPr b="0" lang="en-US" sz="32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3640" y="5587920"/>
              <a:ext cx="1008000" cy="1800"/>
            </a:xfrm>
            <a:prstGeom prst="line">
              <a:avLst/>
            </a:prstGeom>
            <a:ln w="349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924360" y="1268280"/>
            <a:ext cx="4535280" cy="468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注意傾聽，並引導全體同學聆聽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不搖頭、不急於補充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妥善處理答錯時之窘境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匡補探究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歸納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51"/>
              </a:spcBef>
              <a:buClr>
                <a:srgbClr val="33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延伸</a:t>
            </a:r>
            <a:endParaRPr b="0" lang="en-US" sz="30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66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Century Gothic"/>
                <a:ea typeface="新細明體"/>
              </a:rPr>
              <a:t>評價</a:t>
            </a:r>
            <a:endParaRPr b="0" lang="en-US" sz="2800" spc="-1" strike="noStrike">
              <a:solidFill>
                <a:srgbClr val="27277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149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7344"/>
                </a:moveTo>
                <a:lnTo>
                  <a:pt x="4707" y="7344"/>
                </a:lnTo>
                <a:lnTo>
                  <a:pt x="5090" y="7710"/>
                </a:lnTo>
                <a:lnTo>
                  <a:pt x="14299" y="7710"/>
                </a:lnTo>
                <a:lnTo>
                  <a:pt x="14856" y="8267"/>
                </a:lnTo>
                <a:lnTo>
                  <a:pt x="14856" y="8815"/>
                </a:lnTo>
                <a:lnTo>
                  <a:pt x="16701" y="8815"/>
                </a:lnTo>
                <a:lnTo>
                  <a:pt x="17067" y="8267"/>
                </a:lnTo>
                <a:lnTo>
                  <a:pt x="17806" y="8267"/>
                </a:lnTo>
                <a:lnTo>
                  <a:pt x="17806" y="13420"/>
                </a:lnTo>
                <a:lnTo>
                  <a:pt x="17067" y="13420"/>
                </a:lnTo>
                <a:lnTo>
                  <a:pt x="16701" y="12871"/>
                </a:lnTo>
                <a:lnTo>
                  <a:pt x="14856" y="12871"/>
                </a:lnTo>
                <a:lnTo>
                  <a:pt x="14856" y="14151"/>
                </a:lnTo>
                <a:lnTo>
                  <a:pt x="5273" y="14151"/>
                </a:lnTo>
                <a:lnTo>
                  <a:pt x="5273" y="9921"/>
                </a:lnTo>
                <a:lnTo>
                  <a:pt x="5090" y="9921"/>
                </a:lnTo>
                <a:lnTo>
                  <a:pt x="4707" y="10286"/>
                </a:lnTo>
                <a:lnTo>
                  <a:pt x="3794" y="102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83960" y="1916280"/>
            <a:ext cx="686916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entury Gothic"/>
                <a:ea typeface="新細明體"/>
              </a:rPr>
              <a:t>〈</a:t>
            </a:r>
            <a:r>
              <a:rPr b="1" lang="zh-TW" sz="4000" spc="-1" strike="noStrike">
                <a:solidFill>
                  <a:srgbClr val="ff0066"/>
                </a:solidFill>
                <a:latin typeface="Century Gothic"/>
                <a:ea typeface="新細明體"/>
              </a:rPr>
              <a:t>好的課堂由問題開始</a:t>
            </a:r>
            <a:r>
              <a:rPr b="1" lang="en-US" sz="4000" spc="-1" strike="noStrike">
                <a:solidFill>
                  <a:srgbClr val="ff0066"/>
                </a:solidFill>
                <a:latin typeface="Century Gothic"/>
                <a:ea typeface="新細明體"/>
              </a:rPr>
              <a:t>〉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＊誘發求知慾，提昇學習興趣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＊幫助學習，調控教學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＊啟發思維，發展共通能力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＊建立融洽的師生關係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5229360"/>
            <a:ext cx="7705800" cy="1530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544800">
            <a:off x="5292360" y="549000"/>
            <a:ext cx="3672000" cy="863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沉澱的珍珠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335320" y="1918800"/>
            <a:ext cx="40320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多思考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多元化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11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多操練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5400000">
            <a:off x="679680" y="4296240"/>
            <a:ext cx="2168640" cy="244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632400">
            <a:off x="4642920" y="907560"/>
            <a:ext cx="3672000" cy="863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沉澱的珍珠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789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301"/>
                </a:moveTo>
                <a:lnTo>
                  <a:pt x="8316" y="7301"/>
                </a:lnTo>
                <a:lnTo>
                  <a:pt x="8699" y="7667"/>
                </a:lnTo>
                <a:lnTo>
                  <a:pt x="17908" y="7667"/>
                </a:lnTo>
                <a:lnTo>
                  <a:pt x="18465" y="8224"/>
                </a:lnTo>
                <a:lnTo>
                  <a:pt x="18465" y="8772"/>
                </a:lnTo>
                <a:lnTo>
                  <a:pt x="20310" y="8772"/>
                </a:lnTo>
                <a:lnTo>
                  <a:pt x="20676" y="8224"/>
                </a:lnTo>
                <a:lnTo>
                  <a:pt x="21415" y="8224"/>
                </a:lnTo>
                <a:lnTo>
                  <a:pt x="21415" y="13376"/>
                </a:lnTo>
                <a:lnTo>
                  <a:pt x="20676" y="13376"/>
                </a:lnTo>
                <a:lnTo>
                  <a:pt x="20310" y="12828"/>
                </a:lnTo>
                <a:lnTo>
                  <a:pt x="18465" y="12828"/>
                </a:lnTo>
                <a:lnTo>
                  <a:pt x="18465" y="14107"/>
                </a:lnTo>
                <a:lnTo>
                  <a:pt x="8882" y="14107"/>
                </a:lnTo>
                <a:lnTo>
                  <a:pt x="8882" y="9877"/>
                </a:lnTo>
                <a:lnTo>
                  <a:pt x="8699" y="9877"/>
                </a:lnTo>
                <a:lnTo>
                  <a:pt x="8316" y="10243"/>
                </a:lnTo>
                <a:lnTo>
                  <a:pt x="7403" y="1024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youblessed-anim1a.gif (11449 bytes)"/>
          <p:cNvPicPr/>
          <p:nvPr/>
        </p:nvPicPr>
        <p:blipFill>
          <a:blip r:embed="rId1"/>
          <a:stretch/>
        </p:blipFill>
        <p:spPr>
          <a:xfrm>
            <a:off x="6249960" y="4141800"/>
            <a:ext cx="1513080" cy="787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youblessed-anim1a.gif (11449 bytes)"/>
          <p:cNvPicPr/>
          <p:nvPr/>
        </p:nvPicPr>
        <p:blipFill>
          <a:blip r:embed="rId2"/>
          <a:stretch/>
        </p:blipFill>
        <p:spPr>
          <a:xfrm>
            <a:off x="7242120" y="4538520"/>
            <a:ext cx="1208160" cy="62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56000" y="2133720"/>
            <a:ext cx="39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272776"/>
                </a:solidFill>
                <a:latin typeface="Times New Roman"/>
              </a:rPr>
              <a:t>謝謝！</a:t>
            </a:r>
            <a:endParaRPr b="0" lang="en-US" sz="8000" spc="-1" strike="noStrike">
              <a:solidFill>
                <a:srgbClr val="27277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588000" y="5013360"/>
            <a:ext cx="2428920" cy="1652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699160" y="1976400"/>
            <a:ext cx="19400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觀課分析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(</a:t>
            </a: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前測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)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問的數量：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21—28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個提問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問的類型：覆述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008000"/>
                </a:solidFill>
                <a:latin typeface="Century Gothic"/>
                <a:ea typeface="新細明體"/>
              </a:rPr>
              <a:t>28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  <a:ea typeface="新細明體"/>
              </a:rPr>
              <a:t>44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990000"/>
                </a:solidFill>
                <a:latin typeface="Century Gothic"/>
                <a:ea typeface="新細明體"/>
              </a:rPr>
              <a:t>38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           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理解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008000"/>
                </a:solidFill>
                <a:latin typeface="Century Gothic"/>
                <a:ea typeface="新細明體"/>
              </a:rPr>
              <a:t>48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  <a:ea typeface="新細明體"/>
              </a:rPr>
              <a:t>19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990000"/>
                </a:solidFill>
                <a:latin typeface="Century Gothic"/>
                <a:ea typeface="新細明體"/>
              </a:rPr>
              <a:t>43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           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分析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008000"/>
                </a:solidFill>
                <a:latin typeface="Century Gothic"/>
                <a:ea typeface="新細明體"/>
              </a:rPr>
              <a:t>14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  <a:ea typeface="新細明體"/>
              </a:rPr>
              <a:t>26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</a:t>
            </a:r>
            <a:r>
              <a:rPr b="1" lang="en-US" sz="3200" spc="-1" strike="noStrike">
                <a:solidFill>
                  <a:srgbClr val="990000"/>
                </a:solidFill>
                <a:latin typeface="Century Gothic"/>
                <a:ea typeface="新細明體"/>
              </a:rPr>
              <a:t>14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應用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008000"/>
                </a:solidFill>
                <a:latin typeface="Century Gothic"/>
                <a:ea typeface="新細明體"/>
              </a:rPr>
              <a:t>10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  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  <a:ea typeface="新細明體"/>
              </a:rPr>
              <a:t>7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  </a:t>
            </a:r>
            <a:r>
              <a:rPr b="1" lang="en-US" sz="3200" spc="-1" strike="noStrike">
                <a:solidFill>
                  <a:srgbClr val="990000"/>
                </a:solidFill>
                <a:latin typeface="Century Gothic"/>
                <a:ea typeface="新細明體"/>
              </a:rPr>
              <a:t>5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           </a:t>
            </a: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評鑒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  </a:t>
            </a:r>
            <a:r>
              <a:rPr b="1" lang="en-US" sz="3200" spc="-1" strike="noStrike">
                <a:solidFill>
                  <a:srgbClr val="008000"/>
                </a:solidFill>
                <a:latin typeface="Century Gothic"/>
                <a:ea typeface="新細明體"/>
              </a:rPr>
              <a:t>0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  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  <a:ea typeface="新細明體"/>
              </a:rPr>
              <a:t>4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﹐  </a:t>
            </a:r>
            <a:r>
              <a:rPr b="1" lang="en-US" sz="3200" spc="-1" strike="noStrike">
                <a:solidFill>
                  <a:srgbClr val="990000"/>
                </a:solidFill>
                <a:latin typeface="Century Gothic"/>
                <a:ea typeface="新細明體"/>
              </a:rPr>
              <a:t>0%</a:t>
            </a:r>
            <a:r>
              <a:rPr b="1" lang="en-US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對學生答問的回應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前測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(</a:t>
            </a: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課堂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提問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)</a:t>
            </a: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所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7516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量與質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思考時間與空間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能否刺激思考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幫助學生思考的輸入是否足夠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16080" y="1924200"/>
          <a:ext cx="6554880" cy="4238640"/>
        </p:xfrm>
        <a:graphic>
          <a:graphicData uri="http://schemas.openxmlformats.org/drawingml/2006/table">
            <a:tbl>
              <a:tblPr/>
              <a:tblGrid>
                <a:gridCol w="3278160"/>
                <a:gridCol w="327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0066"/>
                          </a:solidFill>
                          <a:latin typeface="Century Gothic"/>
                          <a:ea typeface="新細明體"/>
                        </a:rPr>
                        <a:t>祝新華</a:t>
                      </a:r>
                      <a:endParaRPr b="0" lang="en-US" sz="36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Century Gothic"/>
                          <a:ea typeface="新細明體"/>
                        </a:rPr>
                        <a:t>B.S.Bloom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復述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記憶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解釋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理解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重整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分析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伸展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應用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評鑒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評鑒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創意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3f1e4"/>
                          </a:solidFill>
                          <a:latin typeface="Century Gothic"/>
                          <a:ea typeface="新細明體"/>
                        </a:rPr>
                        <a:t>創意</a:t>
                      </a:r>
                      <a:endParaRPr b="0" lang="en-US" sz="32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 txBox="1"/>
          <p:nvPr/>
        </p:nvSpPr>
        <p:spPr>
          <a:xfrm>
            <a:off x="3288960" y="433440"/>
            <a:ext cx="2642400" cy="712800"/>
          </a:xfrm>
          <a:prstGeom prst="rect">
            <a:avLst/>
          </a:prstGeom>
          <a:solidFill>
            <a:srgbClr val="ffff66"/>
          </a:solidFill>
          <a:ln w="9360">
            <a:solidFill>
              <a:srgbClr val="27277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問層次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1800" y="286920"/>
            <a:ext cx="7774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《</a:t>
            </a: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愚公到底應否移山</a:t>
            </a:r>
            <a:r>
              <a:rPr b="1" lang="en-US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5041800" cy="40323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27277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1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愚妻：污染渤海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環保理由</a:t>
            </a:r>
            <a:r>
              <a:rPr b="0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2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愚子：想做醫生（個人意願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3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村民：失去山林令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—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a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伐木工人失業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b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村落失去天然屏障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</a:t>
            </a: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c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山上動物喪失家園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4.</a:t>
            </a:r>
            <a:r>
              <a:rPr b="1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智者：質疑成效</a:t>
            </a:r>
            <a:r>
              <a:rPr b="0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2565360"/>
            <a:ext cx="3635640" cy="403056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村民：方便出入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貿易、醫病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愚公：造福後代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1700280"/>
            <a:ext cx="23032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</a:rPr>
              <a:t>反對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1773360"/>
            <a:ext cx="208764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</a:rPr>
              <a:t>贊成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2360" y="1988640"/>
            <a:ext cx="8062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一、如何設計課堂問題？   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二、如何以問題貫串課堂學習？  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三、如何以問與答促成愉快的互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</a:t>
            </a: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動學習？</a:t>
            </a:r>
            <a:r>
              <a:rPr b="0" lang="zh-TW" sz="32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1" name=""/>
          <p:cNvSpPr/>
          <p:nvPr/>
        </p:nvSpPr>
        <p:spPr>
          <a:xfrm rot="856200">
            <a:off x="5795640" y="549360"/>
            <a:ext cx="3024000" cy="93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課前準備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451640" y="54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3794" y="9273"/>
                </a:moveTo>
                <a:lnTo>
                  <a:pt x="7301" y="9273"/>
                </a:lnTo>
                <a:lnTo>
                  <a:pt x="7301" y="14608"/>
                </a:lnTo>
                <a:cubicBezTo>
                  <a:pt x="7301" y="15531"/>
                  <a:pt x="8102" y="16262"/>
                  <a:pt x="9138" y="16262"/>
                </a:cubicBezTo>
                <a:lnTo>
                  <a:pt x="10800" y="16262"/>
                </a:lnTo>
                <a:cubicBezTo>
                  <a:pt x="11836" y="16262"/>
                  <a:pt x="12636" y="15531"/>
                  <a:pt x="12636" y="14608"/>
                </a:cubicBezTo>
                <a:lnTo>
                  <a:pt x="12636" y="9273"/>
                </a:lnTo>
                <a:lnTo>
                  <a:pt x="10800" y="9273"/>
                </a:lnTo>
                <a:lnTo>
                  <a:pt x="14308" y="5766"/>
                </a:lnTo>
                <a:lnTo>
                  <a:pt x="17981" y="9273"/>
                </a:lnTo>
                <a:lnTo>
                  <a:pt x="16144" y="9273"/>
                </a:lnTo>
                <a:lnTo>
                  <a:pt x="16144" y="14608"/>
                </a:lnTo>
                <a:cubicBezTo>
                  <a:pt x="16144" y="17376"/>
                  <a:pt x="13568" y="19935"/>
                  <a:pt x="10800" y="19935"/>
                </a:cubicBezTo>
                <a:lnTo>
                  <a:pt x="9138" y="19935"/>
                </a:lnTo>
                <a:cubicBezTo>
                  <a:pt x="6370" y="19935"/>
                  <a:pt x="3794" y="17376"/>
                  <a:pt x="3794" y="14608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480" y="290520"/>
            <a:ext cx="64818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Century Gothic"/>
                <a:ea typeface="新細明體"/>
              </a:rPr>
              <a:t>教師提問技巧檢視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1282680" cy="16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800360" y="1919160"/>
          <a:ext cx="4651200" cy="35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360" y="1919160"/>
                    <a:ext cx="465120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84360" y="5589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質素視學對教師提問技巧的觀察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課堂教學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1197000"/>
          <a:ext cx="8281800" cy="5430600"/>
        </p:xfrm>
        <a:graphic>
          <a:graphicData uri="http://schemas.openxmlformats.org/drawingml/2006/table">
            <a:tbl>
              <a:tblPr/>
              <a:tblGrid>
                <a:gridCol w="658800"/>
                <a:gridCol w="2785680"/>
                <a:gridCol w="2767680"/>
                <a:gridCol w="206964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循環一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循環二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循環三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47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修改事項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修改討論指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引表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各組彙報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利用 實物投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映機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3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預計學生答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案，加以追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問以刺激思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考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擴大一些評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價式或較高階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思維的提問範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圍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分組討論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老師以熒光筆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記下值得出來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彙報的答案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．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解釋分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辨事實與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意見的重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  </a:t>
                      </a: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要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675640" y="630864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3794" y="9689"/>
                </a:moveTo>
                <a:lnTo>
                  <a:pt x="7301" y="9689"/>
                </a:lnTo>
                <a:lnTo>
                  <a:pt x="7301" y="15025"/>
                </a:lnTo>
                <a:cubicBezTo>
                  <a:pt x="7301" y="15947"/>
                  <a:pt x="8102" y="16678"/>
                  <a:pt x="9138" y="16678"/>
                </a:cubicBezTo>
                <a:lnTo>
                  <a:pt x="10800" y="16678"/>
                </a:lnTo>
                <a:cubicBezTo>
                  <a:pt x="11836" y="16678"/>
                  <a:pt x="12636" y="15947"/>
                  <a:pt x="12636" y="15025"/>
                </a:cubicBezTo>
                <a:lnTo>
                  <a:pt x="12636" y="9689"/>
                </a:lnTo>
                <a:lnTo>
                  <a:pt x="10800" y="9689"/>
                </a:lnTo>
                <a:lnTo>
                  <a:pt x="14308" y="6182"/>
                </a:lnTo>
                <a:lnTo>
                  <a:pt x="17981" y="9689"/>
                </a:lnTo>
                <a:lnTo>
                  <a:pt x="16144" y="9689"/>
                </a:lnTo>
                <a:lnTo>
                  <a:pt x="16144" y="15025"/>
                </a:lnTo>
                <a:cubicBezTo>
                  <a:pt x="16144" y="17793"/>
                  <a:pt x="13568" y="20351"/>
                  <a:pt x="10800" y="20351"/>
                </a:cubicBezTo>
                <a:lnTo>
                  <a:pt x="9138" y="20351"/>
                </a:lnTo>
                <a:cubicBezTo>
                  <a:pt x="6370" y="20351"/>
                  <a:pt x="3794" y="17793"/>
                  <a:pt x="3794" y="15025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72776"/>
              </a:solidFill>
              <a:latin typeface="Century Gothic"/>
              <a:ea typeface="新細明體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1200" y="1608120"/>
            <a:ext cx="754524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 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               </a:t>
            </a:r>
            <a:r>
              <a:rPr b="1" lang="zh-TW" sz="48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課堂學會什麼？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8" name=""/>
          <p:cNvSpPr/>
          <p:nvPr/>
        </p:nvSpPr>
        <p:spPr>
          <a:xfrm rot="1099200">
            <a:off x="6156360" y="691920"/>
            <a:ext cx="2736720" cy="100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學生訪問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8101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34920" y="4660920"/>
            <a:ext cx="1382760" cy="1306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76720" y="3500280"/>
            <a:ext cx="647640" cy="6494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60">
                <a:moveTo>
                  <a:pt x="0" y="0"/>
                </a:moveTo>
                <a:lnTo>
                  <a:pt x="21600" y="0"/>
                </a:lnTo>
                <a:lnTo>
                  <a:pt x="21600" y="21660"/>
                </a:lnTo>
                <a:lnTo>
                  <a:pt x="0" y="21660"/>
                </a:lnTo>
                <a:close/>
              </a:path>
              <a:path fill="lightenLess" w="21600" h="216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0">
                <a:moveTo>
                  <a:pt x="21600" y="0"/>
                </a:moveTo>
                <a:lnTo>
                  <a:pt x="21600" y="21660"/>
                </a:lnTo>
                <a:lnTo>
                  <a:pt x="20200" y="20260"/>
                </a:lnTo>
                <a:lnTo>
                  <a:pt x="20200" y="1400"/>
                </a:lnTo>
                <a:close/>
              </a:path>
              <a:path fill="darkenLess" w="21600" h="21660">
                <a:moveTo>
                  <a:pt x="21600" y="21660"/>
                </a:moveTo>
                <a:lnTo>
                  <a:pt x="0" y="21660"/>
                </a:lnTo>
                <a:lnTo>
                  <a:pt x="1400" y="20260"/>
                </a:lnTo>
                <a:lnTo>
                  <a:pt x="20200" y="20260"/>
                </a:lnTo>
                <a:close/>
              </a:path>
              <a:path fill="lighten" w="21600" h="21660">
                <a:moveTo>
                  <a:pt x="0" y="216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0"/>
                </a:lnTo>
                <a:close/>
              </a:path>
              <a:path fill="darken" w="21600" h="21660">
                <a:moveTo>
                  <a:pt x="3794" y="7331"/>
                </a:moveTo>
                <a:lnTo>
                  <a:pt x="4707" y="7331"/>
                </a:lnTo>
                <a:lnTo>
                  <a:pt x="5090" y="7697"/>
                </a:lnTo>
                <a:lnTo>
                  <a:pt x="14299" y="7697"/>
                </a:lnTo>
                <a:lnTo>
                  <a:pt x="14856" y="8254"/>
                </a:lnTo>
                <a:lnTo>
                  <a:pt x="14856" y="8802"/>
                </a:lnTo>
                <a:lnTo>
                  <a:pt x="16701" y="8802"/>
                </a:lnTo>
                <a:lnTo>
                  <a:pt x="17067" y="8254"/>
                </a:lnTo>
                <a:lnTo>
                  <a:pt x="17806" y="8254"/>
                </a:lnTo>
                <a:lnTo>
                  <a:pt x="17806" y="13406"/>
                </a:lnTo>
                <a:lnTo>
                  <a:pt x="17067" y="13406"/>
                </a:lnTo>
                <a:lnTo>
                  <a:pt x="16701" y="12858"/>
                </a:lnTo>
                <a:lnTo>
                  <a:pt x="14856" y="12858"/>
                </a:lnTo>
                <a:lnTo>
                  <a:pt x="14856" y="14137"/>
                </a:lnTo>
                <a:lnTo>
                  <a:pt x="5273" y="14137"/>
                </a:lnTo>
                <a:lnTo>
                  <a:pt x="5273" y="9907"/>
                </a:lnTo>
                <a:lnTo>
                  <a:pt x="5090" y="9907"/>
                </a:lnTo>
                <a:lnTo>
                  <a:pt x="4707" y="10273"/>
                </a:lnTo>
                <a:lnTo>
                  <a:pt x="3794" y="1027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3500280"/>
            <a:ext cx="647640" cy="6494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60">
                <a:moveTo>
                  <a:pt x="0" y="0"/>
                </a:moveTo>
                <a:lnTo>
                  <a:pt x="21600" y="0"/>
                </a:lnTo>
                <a:lnTo>
                  <a:pt x="21600" y="21660"/>
                </a:lnTo>
                <a:lnTo>
                  <a:pt x="0" y="21660"/>
                </a:lnTo>
                <a:close/>
              </a:path>
              <a:path fill="lightenLess" w="21600" h="216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0">
                <a:moveTo>
                  <a:pt x="21600" y="0"/>
                </a:moveTo>
                <a:lnTo>
                  <a:pt x="21600" y="21660"/>
                </a:lnTo>
                <a:lnTo>
                  <a:pt x="20200" y="20260"/>
                </a:lnTo>
                <a:lnTo>
                  <a:pt x="20200" y="1400"/>
                </a:lnTo>
                <a:close/>
              </a:path>
              <a:path fill="darkenLess" w="21600" h="21660">
                <a:moveTo>
                  <a:pt x="21600" y="21660"/>
                </a:moveTo>
                <a:lnTo>
                  <a:pt x="0" y="21660"/>
                </a:lnTo>
                <a:lnTo>
                  <a:pt x="1400" y="20260"/>
                </a:lnTo>
                <a:lnTo>
                  <a:pt x="20200" y="20260"/>
                </a:lnTo>
                <a:close/>
              </a:path>
              <a:path fill="lighten" w="21600" h="21660">
                <a:moveTo>
                  <a:pt x="0" y="216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0"/>
                </a:lnTo>
                <a:close/>
              </a:path>
              <a:path fill="darken" w="21600" h="21660">
                <a:moveTo>
                  <a:pt x="3794" y="7331"/>
                </a:moveTo>
                <a:lnTo>
                  <a:pt x="4707" y="7331"/>
                </a:lnTo>
                <a:lnTo>
                  <a:pt x="5090" y="7697"/>
                </a:lnTo>
                <a:lnTo>
                  <a:pt x="14299" y="7697"/>
                </a:lnTo>
                <a:lnTo>
                  <a:pt x="14856" y="8254"/>
                </a:lnTo>
                <a:lnTo>
                  <a:pt x="14856" y="8802"/>
                </a:lnTo>
                <a:lnTo>
                  <a:pt x="16701" y="8802"/>
                </a:lnTo>
                <a:lnTo>
                  <a:pt x="17067" y="8254"/>
                </a:lnTo>
                <a:lnTo>
                  <a:pt x="17806" y="8254"/>
                </a:lnTo>
                <a:lnTo>
                  <a:pt x="17806" y="13406"/>
                </a:lnTo>
                <a:lnTo>
                  <a:pt x="17067" y="13406"/>
                </a:lnTo>
                <a:lnTo>
                  <a:pt x="16701" y="12858"/>
                </a:lnTo>
                <a:lnTo>
                  <a:pt x="14856" y="12858"/>
                </a:lnTo>
                <a:lnTo>
                  <a:pt x="14856" y="14137"/>
                </a:lnTo>
                <a:lnTo>
                  <a:pt x="5273" y="14137"/>
                </a:lnTo>
                <a:lnTo>
                  <a:pt x="5273" y="9907"/>
                </a:lnTo>
                <a:lnTo>
                  <a:pt x="5090" y="9907"/>
                </a:lnTo>
                <a:lnTo>
                  <a:pt x="4707" y="10273"/>
                </a:lnTo>
                <a:lnTo>
                  <a:pt x="3794" y="1027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分辨事實與意見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42840" y="2371680"/>
            <a:ext cx="7126560" cy="3681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67640" y="5373720"/>
            <a:ext cx="530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272776"/>
                </a:solidFill>
                <a:latin typeface="Times New Roman"/>
              </a:rPr>
              <a:t>分數</a:t>
            </a:r>
            <a:endParaRPr b="0" lang="en-US" sz="12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250920" y="260280"/>
          <a:ext cx="640872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64087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50920" y="3587760"/>
          <a:ext cx="6408720" cy="3270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587760"/>
                    <a:ext cx="6408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804000" y="14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第十二題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964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第十三題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996600">
            <a:off x="6516360" y="476280"/>
            <a:ext cx="2627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判斷與解釋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3" name="">
            <a:hlinkClick r:id="rId5" action="ppaction://hlinksldjump"/>
          </p:cNvPr>
          <p:cNvSpPr/>
          <p:nvPr/>
        </p:nvSpPr>
        <p:spPr>
          <a:xfrm>
            <a:off x="8532720" y="6165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4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4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2421000"/>
            <a:ext cx="505080" cy="36036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3640" y="2421000"/>
            <a:ext cx="503280" cy="360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5877000"/>
            <a:ext cx="503280" cy="35856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5877000"/>
            <a:ext cx="503280" cy="28728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5877000"/>
            <a:ext cx="503280" cy="2872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2421000"/>
            <a:ext cx="503280" cy="360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5877000"/>
            <a:ext cx="433440" cy="2872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421000"/>
            <a:ext cx="576360" cy="36036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1082000">
            <a:off x="250920" y="2205000"/>
            <a:ext cx="1800000" cy="922320"/>
          </a:xfrm>
          <a:prstGeom prst="wedgeEllipseCallout">
            <a:avLst>
              <a:gd name="adj1" fmla="val -71893"/>
              <a:gd name="adj2" fmla="val 8069"/>
            </a:avLst>
          </a:prstGeom>
          <a:solidFill>
            <a:srgbClr val="66ff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答非所問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毫無理由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32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5013360"/>
            <a:ext cx="1654200" cy="865080"/>
          </a:xfrm>
          <a:prstGeom prst="wedgeEllipseCallout">
            <a:avLst>
              <a:gd name="adj1" fmla="val 69000"/>
              <a:gd name="adj2" fmla="val 52018"/>
            </a:avLst>
          </a:prstGeom>
          <a:solidFill>
            <a:srgbClr val="66ff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語意矛盾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不知所云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96360" y="38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0360" y="1916280"/>
            <a:ext cx="1513080" cy="934920"/>
          </a:xfrm>
          <a:prstGeom prst="wedgeRoundRectCallout">
            <a:avLst>
              <a:gd name="adj1" fmla="val -88824"/>
              <a:gd name="adj2" fmla="val 35740"/>
              <a:gd name="adj3" fmla="val 16667"/>
            </a:avLst>
          </a:prstGeom>
          <a:solidFill>
            <a:srgbClr val="ff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答案完整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272776"/>
                </a:solidFill>
                <a:latin typeface="Times New Roman"/>
              </a:rPr>
              <a:t>解釋合理</a:t>
            </a:r>
            <a:endParaRPr b="0" lang="en-US" sz="20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84720" y="5661000"/>
            <a:ext cx="1729080" cy="719280"/>
          </a:xfrm>
          <a:prstGeom prst="wedgeRoundRectCallout">
            <a:avLst>
              <a:gd name="adj1" fmla="val -99402"/>
              <a:gd name="adj2" fmla="val 17768"/>
              <a:gd name="adj3" fmla="val 16667"/>
            </a:avLst>
          </a:prstGeom>
          <a:solidFill>
            <a:srgbClr val="ff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注意理據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教師提問類型 </a:t>
            </a:r>
            <a:r>
              <a:rPr b="1" lang="en-US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(</a:t>
            </a: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前後測比較</a:t>
            </a:r>
            <a:r>
              <a:rPr b="1" lang="en-US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)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844640"/>
          <a:ext cx="8424720" cy="4383000"/>
        </p:xfrm>
        <a:graphic>
          <a:graphicData uri="http://schemas.openxmlformats.org/drawingml/2006/table">
            <a:tbl>
              <a:tblPr/>
              <a:tblGrid>
                <a:gridCol w="701640"/>
                <a:gridCol w="703080"/>
                <a:gridCol w="701640"/>
                <a:gridCol w="701640"/>
                <a:gridCol w="701640"/>
                <a:gridCol w="703440"/>
                <a:gridCol w="701640"/>
                <a:gridCol w="701640"/>
                <a:gridCol w="701640"/>
                <a:gridCol w="703440"/>
                <a:gridCol w="701640"/>
                <a:gridCol w="701640"/>
              </a:tblGrid>
              <a:tr h="60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提問類型</a:t>
                      </a:r>
                      <a:r>
                        <a:rPr b="0" lang="zh-TW" sz="24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是非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敘述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分析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應用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演繹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伸展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創意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評價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比較</a:t>
                      </a:r>
                      <a:r>
                        <a:rPr b="0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89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B</a:t>
                      </a: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班老師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前測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8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4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8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0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後測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2%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6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8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7%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1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1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6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</a:tr>
              <a:tr h="60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C</a:t>
                      </a: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班老師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前測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4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6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9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7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後測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5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1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33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7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7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1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7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</a:tr>
              <a:tr h="60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D</a:t>
                      </a: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班老師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前測</a:t>
                      </a:r>
                      <a:r>
                        <a:rPr b="0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38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4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43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5%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後測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3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3%</a:t>
                      </a:r>
                      <a:r>
                        <a:rPr b="0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25%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3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13%</a:t>
                      </a: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solidFill>
                      <a:srgbClr val="af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16120" y="419040"/>
          <a:ext cx="6670440" cy="6203880"/>
        </p:xfrm>
        <a:graphic>
          <a:graphicData uri="http://schemas.openxmlformats.org/drawingml/2006/table">
            <a:tbl>
              <a:tblPr/>
              <a:tblGrid>
                <a:gridCol w="1295280"/>
                <a:gridCol w="2658960"/>
                <a:gridCol w="271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視學報告中對提問技巧的</a:t>
                      </a: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Century Gothic"/>
                          <a:ea typeface="新細明體"/>
                        </a:rPr>
                        <a:t>觀察與要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視學報告中對提問技巧的</a:t>
                      </a:r>
                      <a:r>
                        <a:rPr b="1" lang="zh-TW" sz="2800" spc="-1" strike="noStrike">
                          <a:solidFill>
                            <a:srgbClr val="ff0066"/>
                          </a:solidFill>
                          <a:latin typeface="Century Gothic"/>
                          <a:ea typeface="新細明體"/>
                        </a:rPr>
                        <a:t>建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01-02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只籠統描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沒有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02-03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開始有具體描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有具體建議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03-04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有深入分析，並落實要求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因應學生靈活運用，注重問與答的互動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72776"/>
                          </a:solidFill>
                          <a:latin typeface="Century Gothic"/>
                          <a:ea typeface="新細明體"/>
                        </a:rPr>
                        <a:t>04-05</a:t>
                      </a:r>
                      <a:endParaRPr b="0" lang="en-US" sz="28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6600cc"/>
                          </a:solidFill>
                          <a:latin typeface="Century Gothic"/>
                          <a:ea typeface="新細明體"/>
                        </a:rPr>
                        <a:t>要求較全面</a:t>
                      </a:r>
                      <a:endParaRPr b="0" lang="en-US" sz="36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7277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14600" y="1916280"/>
            <a:ext cx="2314800" cy="302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83664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836640"/>
            <a:ext cx="172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765000"/>
            <a:ext cx="136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836640"/>
            <a:ext cx="187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26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76280"/>
            <a:ext cx="2016000" cy="172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413000"/>
            <a:ext cx="1655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907920"/>
            <a:ext cx="16574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637000"/>
            <a:ext cx="1584360" cy="1557000"/>
          </a:xfrm>
          <a:prstGeom prst="rect">
            <a:avLst/>
          </a:prstGeom>
          <a:noFill/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272776"/>
                </a:solidFill>
                <a:latin typeface="Times New Roman"/>
              </a:rPr>
              <a:t>教</a:t>
            </a:r>
            <a:endParaRPr b="0" lang="en-US" sz="9600" spc="-1" strike="noStrike">
              <a:solidFill>
                <a:srgbClr val="27277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63800" y="2349360"/>
            <a:ext cx="1846080" cy="203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88000" y="2637000"/>
            <a:ext cx="1440000" cy="1557000"/>
          </a:xfrm>
          <a:prstGeom prst="rect">
            <a:avLst/>
          </a:prstGeom>
          <a:noFill/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272776"/>
                </a:solidFill>
                <a:latin typeface="Times New Roman"/>
              </a:rPr>
              <a:t>學</a:t>
            </a:r>
            <a:endParaRPr b="0" lang="en-US" sz="9600" spc="-1" strike="noStrike">
              <a:solidFill>
                <a:srgbClr val="27277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227640" y="2349360"/>
            <a:ext cx="2160720" cy="2065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5013360"/>
            <a:ext cx="26640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提升提問技巧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5013360"/>
            <a:ext cx="280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培養批判思維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33360"/>
            <a:ext cx="7777080" cy="1224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提昇教學技巧    優化課堂學習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行動研究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(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提問技巧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  <a:ea typeface="新細明體"/>
              </a:rPr>
              <a:t>)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276640"/>
            <a:ext cx="122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270828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208600"/>
            <a:ext cx="11523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前測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2637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2133720"/>
            <a:ext cx="136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99736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321300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141720"/>
            <a:ext cx="2087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2565360"/>
            <a:ext cx="158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284640"/>
            <a:ext cx="187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060640"/>
            <a:ext cx="172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4221000"/>
            <a:ext cx="208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789360"/>
            <a:ext cx="1655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3357720"/>
            <a:ext cx="20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49228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56480" y="2208600"/>
            <a:ext cx="66852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講座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2208600"/>
            <a:ext cx="20163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課堂設計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2132640"/>
            <a:ext cx="1536480" cy="649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循環一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3413880"/>
            <a:ext cx="1512720" cy="649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循環二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709160"/>
            <a:ext cx="1581120" cy="649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72776"/>
                </a:solidFill>
                <a:latin typeface="Times New Roman"/>
              </a:rPr>
              <a:t>循環三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872600"/>
            <a:ext cx="116532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後測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4872600"/>
            <a:ext cx="1224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檢討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120" y="4872600"/>
            <a:ext cx="66852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72776"/>
                </a:solidFill>
                <a:latin typeface="Times New Roman"/>
              </a:rPr>
              <a:t>分享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492280"/>
            <a:ext cx="93672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2492280"/>
            <a:ext cx="57600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492280"/>
            <a:ext cx="43200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08000" y="5157720"/>
            <a:ext cx="86508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47640" y="5157720"/>
            <a:ext cx="72072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4149720"/>
            <a:ext cx="719280" cy="865080"/>
          </a:xfrm>
          <a:custGeom>
            <a:avLst/>
            <a:gdLst>
              <a:gd name="textAreaLeft" fmla="*/ 96120 w 719280"/>
              <a:gd name="textAreaRight" fmla="*/ 623160 w 7192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01080" y="2852640"/>
            <a:ext cx="790560" cy="792360"/>
          </a:xfrm>
          <a:custGeom>
            <a:avLst/>
            <a:gdLst>
              <a:gd name="textAreaLeft" fmla="*/ 105840 w 790560"/>
              <a:gd name="textAreaRight" fmla="*/ 684720 w 79056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867280" y="5084640"/>
            <a:ext cx="43344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675640" y="4221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10800" y="744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96">
                <a:moveTo>
                  <a:pt x="10800" y="78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96">
                <a:moveTo>
                  <a:pt x="8224" y="11872"/>
                </a:moveTo>
                <a:lnTo>
                  <a:pt x="12088" y="11872"/>
                </a:lnTo>
                <a:lnTo>
                  <a:pt x="12088" y="18869"/>
                </a:lnTo>
                <a:lnTo>
                  <a:pt x="13376" y="18869"/>
                </a:lnTo>
                <a:lnTo>
                  <a:pt x="13376" y="19792"/>
                </a:lnTo>
                <a:lnTo>
                  <a:pt x="8224" y="19792"/>
                </a:lnTo>
                <a:lnTo>
                  <a:pt x="8224" y="18869"/>
                </a:lnTo>
                <a:lnTo>
                  <a:pt x="9512" y="18869"/>
                </a:lnTo>
                <a:lnTo>
                  <a:pt x="9512" y="12777"/>
                </a:lnTo>
                <a:lnTo>
                  <a:pt x="8224" y="12777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5292720" y="5516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5148360" y="2852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0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27">
                <a:moveTo>
                  <a:pt x="10800" y="418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27">
                <a:moveTo>
                  <a:pt x="8224" y="8237"/>
                </a:moveTo>
                <a:lnTo>
                  <a:pt x="12088" y="8237"/>
                </a:lnTo>
                <a:lnTo>
                  <a:pt x="12088" y="15235"/>
                </a:lnTo>
                <a:lnTo>
                  <a:pt x="13376" y="15235"/>
                </a:lnTo>
                <a:lnTo>
                  <a:pt x="13376" y="16158"/>
                </a:lnTo>
                <a:lnTo>
                  <a:pt x="8224" y="16158"/>
                </a:lnTo>
                <a:lnTo>
                  <a:pt x="8224" y="15235"/>
                </a:lnTo>
                <a:lnTo>
                  <a:pt x="9512" y="15235"/>
                </a:lnTo>
                <a:lnTo>
                  <a:pt x="9512" y="9142"/>
                </a:lnTo>
                <a:lnTo>
                  <a:pt x="8224" y="9142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2843280" y="5516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4" name="">
            <a:hlinkClick r:id="rId5" action="ppaction://hlinksldjump"/>
          </p:cNvPr>
          <p:cNvSpPr/>
          <p:nvPr/>
        </p:nvSpPr>
        <p:spPr>
          <a:xfrm>
            <a:off x="4788000" y="5516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292428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10800" y="647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53">
                <a:moveTo>
                  <a:pt x="10800" y="684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53">
                <a:moveTo>
                  <a:pt x="8224" y="10900"/>
                </a:moveTo>
                <a:lnTo>
                  <a:pt x="12088" y="10900"/>
                </a:lnTo>
                <a:lnTo>
                  <a:pt x="12088" y="17898"/>
                </a:lnTo>
                <a:lnTo>
                  <a:pt x="13376" y="17898"/>
                </a:lnTo>
                <a:lnTo>
                  <a:pt x="13376" y="18821"/>
                </a:lnTo>
                <a:lnTo>
                  <a:pt x="8224" y="18821"/>
                </a:lnTo>
                <a:lnTo>
                  <a:pt x="8224" y="17898"/>
                </a:lnTo>
                <a:lnTo>
                  <a:pt x="9512" y="17898"/>
                </a:lnTo>
                <a:lnTo>
                  <a:pt x="9512" y="11805"/>
                </a:lnTo>
                <a:lnTo>
                  <a:pt x="8224" y="1180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2852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Less" w="21600" h="21627">
                <a:moveTo>
                  <a:pt x="5273" y="3998"/>
                </a:moveTo>
                <a:lnTo>
                  <a:pt x="12271" y="3998"/>
                </a:lnTo>
                <a:lnTo>
                  <a:pt x="16327" y="7497"/>
                </a:lnTo>
                <a:lnTo>
                  <a:pt x="16327" y="17628"/>
                </a:lnTo>
                <a:lnTo>
                  <a:pt x="5273" y="17628"/>
                </a:lnTo>
                <a:close/>
              </a:path>
              <a:path fill="darken" w="21600" h="21627">
                <a:moveTo>
                  <a:pt x="12271" y="3998"/>
                </a:moveTo>
                <a:lnTo>
                  <a:pt x="16327" y="7497"/>
                </a:lnTo>
                <a:lnTo>
                  <a:pt x="12271" y="7497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04360" y="371628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Less" w="21600" h="21627">
                <a:moveTo>
                  <a:pt x="5273" y="3998"/>
                </a:moveTo>
                <a:lnTo>
                  <a:pt x="12271" y="3998"/>
                </a:lnTo>
                <a:lnTo>
                  <a:pt x="16327" y="7497"/>
                </a:lnTo>
                <a:lnTo>
                  <a:pt x="16327" y="17628"/>
                </a:lnTo>
                <a:lnTo>
                  <a:pt x="5273" y="17628"/>
                </a:lnTo>
                <a:close/>
              </a:path>
              <a:path fill="darken" w="21600" h="21627">
                <a:moveTo>
                  <a:pt x="12271" y="3998"/>
                </a:moveTo>
                <a:lnTo>
                  <a:pt x="16327" y="7497"/>
                </a:lnTo>
                <a:lnTo>
                  <a:pt x="12271" y="7497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Century Gothic"/>
                <a:ea typeface="新細明體"/>
              </a:rPr>
              <a:t>教師發展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06360" y="1701720"/>
            <a:ext cx="487836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問技巧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同儕觀課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深入探討教學內容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設計課堂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建立學習社群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昇專業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951600" y="4508640"/>
            <a:ext cx="1916280" cy="2163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43640" y="299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301"/>
                </a:moveTo>
                <a:lnTo>
                  <a:pt x="8325" y="7301"/>
                </a:lnTo>
                <a:lnTo>
                  <a:pt x="8708" y="7667"/>
                </a:lnTo>
                <a:lnTo>
                  <a:pt x="17917" y="7667"/>
                </a:lnTo>
                <a:lnTo>
                  <a:pt x="18474" y="8224"/>
                </a:lnTo>
                <a:lnTo>
                  <a:pt x="18474" y="8772"/>
                </a:lnTo>
                <a:lnTo>
                  <a:pt x="20319" y="8772"/>
                </a:lnTo>
                <a:lnTo>
                  <a:pt x="20685" y="8224"/>
                </a:lnTo>
                <a:lnTo>
                  <a:pt x="21424" y="8224"/>
                </a:lnTo>
                <a:lnTo>
                  <a:pt x="21424" y="13376"/>
                </a:lnTo>
                <a:lnTo>
                  <a:pt x="20685" y="13376"/>
                </a:lnTo>
                <a:lnTo>
                  <a:pt x="20319" y="12828"/>
                </a:lnTo>
                <a:lnTo>
                  <a:pt x="18474" y="12828"/>
                </a:lnTo>
                <a:lnTo>
                  <a:pt x="18474" y="14107"/>
                </a:lnTo>
                <a:lnTo>
                  <a:pt x="8891" y="14107"/>
                </a:lnTo>
                <a:lnTo>
                  <a:pt x="8891" y="9877"/>
                </a:lnTo>
                <a:lnTo>
                  <a:pt x="8708" y="9877"/>
                </a:lnTo>
                <a:lnTo>
                  <a:pt x="8325" y="10243"/>
                </a:lnTo>
                <a:lnTo>
                  <a:pt x="7412" y="1024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4869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7301"/>
                </a:moveTo>
                <a:lnTo>
                  <a:pt x="6543" y="7301"/>
                </a:lnTo>
                <a:lnTo>
                  <a:pt x="6926" y="7667"/>
                </a:lnTo>
                <a:lnTo>
                  <a:pt x="16135" y="7667"/>
                </a:lnTo>
                <a:lnTo>
                  <a:pt x="16692" y="8224"/>
                </a:lnTo>
                <a:lnTo>
                  <a:pt x="16692" y="8772"/>
                </a:lnTo>
                <a:lnTo>
                  <a:pt x="18537" y="8772"/>
                </a:lnTo>
                <a:lnTo>
                  <a:pt x="18903" y="8224"/>
                </a:lnTo>
                <a:lnTo>
                  <a:pt x="19642" y="8224"/>
                </a:lnTo>
                <a:lnTo>
                  <a:pt x="19642" y="13376"/>
                </a:lnTo>
                <a:lnTo>
                  <a:pt x="18903" y="13376"/>
                </a:lnTo>
                <a:lnTo>
                  <a:pt x="18537" y="12828"/>
                </a:lnTo>
                <a:lnTo>
                  <a:pt x="16692" y="12828"/>
                </a:lnTo>
                <a:lnTo>
                  <a:pt x="16692" y="14107"/>
                </a:lnTo>
                <a:lnTo>
                  <a:pt x="7109" y="14107"/>
                </a:lnTo>
                <a:lnTo>
                  <a:pt x="7109" y="9877"/>
                </a:lnTo>
                <a:lnTo>
                  <a:pt x="6926" y="9877"/>
                </a:lnTo>
                <a:lnTo>
                  <a:pt x="6543" y="10243"/>
                </a:lnTo>
                <a:lnTo>
                  <a:pt x="5630" y="1024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672920" y="1687320"/>
            <a:ext cx="6784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課堂提問技能：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．</a:t>
            </a:r>
            <a:r>
              <a:rPr b="1" lang="zh-TW" sz="3600" spc="-1" strike="noStrike">
                <a:solidFill>
                  <a:srgbClr val="ff3300"/>
                </a:solidFill>
                <a:latin typeface="Century Gothic"/>
                <a:ea typeface="新細明體"/>
              </a:rPr>
              <a:t>設計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提問的技能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2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．</a:t>
            </a:r>
            <a:r>
              <a:rPr b="1" lang="zh-TW" sz="3600" spc="-1" strike="noStrike">
                <a:solidFill>
                  <a:srgbClr val="ff3300"/>
                </a:solidFill>
                <a:latin typeface="Century Gothic"/>
                <a:ea typeface="新細明體"/>
              </a:rPr>
              <a:t>引導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學生回答問題的技能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3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．</a:t>
            </a:r>
            <a:r>
              <a:rPr b="1" lang="zh-TW" sz="3600" spc="-1" strike="noStrike">
                <a:solidFill>
                  <a:srgbClr val="ff3300"/>
                </a:solidFill>
                <a:latin typeface="Century Gothic"/>
                <a:ea typeface="新細明體"/>
              </a:rPr>
              <a:t>評價</a:t>
            </a:r>
            <a:r>
              <a:rPr b="1" lang="zh-TW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學生回答的技能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1136520" y="4065480"/>
            <a:ext cx="1593720" cy="245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533400">
            <a:off x="4716000" y="765000"/>
            <a:ext cx="4105440" cy="1079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272776"/>
                </a:solidFill>
                <a:latin typeface="Times New Roman"/>
              </a:rPr>
              <a:t>沉澱的珍珠</a:t>
            </a:r>
            <a:endParaRPr b="0" lang="en-US" sz="40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39640" y="333360"/>
            <a:ext cx="4969080" cy="5688000"/>
            <a:chOff x="539640" y="333360"/>
            <a:chExt cx="4969080" cy="5688000"/>
          </a:xfrm>
        </p:grpSpPr>
        <p:cxnSp>
          <p:nvCxnSpPr>
            <p:cNvPr id="157" name="_s216068"/>
            <p:cNvCxnSpPr/>
            <p:nvPr/>
          </p:nvCxnSpPr>
          <p:spPr>
            <a:xfrm rot="10800000">
              <a:off x="683640" y="1556640"/>
              <a:ext cx="2105640" cy="40791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58" name="_s216069"/>
            <p:cNvCxnSpPr/>
            <p:nvPr/>
          </p:nvCxnSpPr>
          <p:spPr>
            <a:xfrm rot="10800000">
              <a:off x="683640" y="1340640"/>
              <a:ext cx="2105640" cy="308844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59" name="_s216070"/>
            <p:cNvCxnSpPr/>
            <p:nvPr/>
          </p:nvCxnSpPr>
          <p:spPr>
            <a:xfrm rot="10800000">
              <a:off x="683640" y="1124640"/>
              <a:ext cx="2105640" cy="209628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60" name="_s216071"/>
            <p:cNvCxnSpPr/>
            <p:nvPr/>
          </p:nvCxnSpPr>
          <p:spPr>
            <a:xfrm rot="10800000">
              <a:off x="683640" y="835920"/>
              <a:ext cx="2105640" cy="11055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sp>
          <p:nvSpPr>
            <p:cNvPr id="161" name="_s216072"/>
            <p:cNvSpPr/>
            <p:nvPr/>
          </p:nvSpPr>
          <p:spPr>
            <a:xfrm>
              <a:off x="539640" y="333360"/>
              <a:ext cx="496908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500" spc="-1" strike="noStrike">
                  <a:solidFill>
                    <a:srgbClr val="8b10c2"/>
                  </a:solidFill>
                  <a:latin typeface="Century Gothic"/>
                </a:rPr>
                <a:t>如何優化提問技巧</a:t>
              </a:r>
              <a:endParaRPr b="0" lang="en-US" sz="45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62" name="_s216073"/>
            <p:cNvSpPr/>
            <p:nvPr/>
          </p:nvSpPr>
          <p:spPr>
            <a:xfrm>
              <a:off x="1187280" y="148428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00cc"/>
                  </a:solidFill>
                  <a:latin typeface="Century Gothic"/>
                </a:rPr>
                <a:t>問什麼？</a:t>
              </a:r>
              <a:endParaRPr b="0" lang="en-US" sz="32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63" name="_s216074"/>
            <p:cNvSpPr/>
            <p:nvPr/>
          </p:nvSpPr>
          <p:spPr>
            <a:xfrm>
              <a:off x="1187280" y="27813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怎樣問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64" name="_s216075"/>
            <p:cNvSpPr/>
            <p:nvPr/>
          </p:nvSpPr>
          <p:spPr>
            <a:xfrm>
              <a:off x="1187280" y="400860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如何誘導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65" name="_s216076"/>
            <p:cNvSpPr/>
            <p:nvPr/>
          </p:nvSpPr>
          <p:spPr>
            <a:xfrm>
              <a:off x="1187280" y="51609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如何處理學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的回答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211640" y="1413000"/>
            <a:ext cx="3889440" cy="49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1.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掌握提問的目標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 </a:t>
            </a: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為新課導入、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     </a:t>
            </a: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為講課探究啟發、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     </a:t>
            </a:r>
            <a:r>
              <a:rPr b="1" lang="zh-TW" sz="24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為內容總結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2.</a:t>
            </a:r>
            <a:r>
              <a:rPr b="1" lang="en-US" sz="3600" spc="-1" strike="noStrike">
                <a:solidFill>
                  <a:srgbClr val="272776"/>
                </a:solidFill>
                <a:latin typeface="Century Gothic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認清問題的類別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‧</a:t>
            </a:r>
            <a:r>
              <a:rPr b="1" lang="zh-TW" sz="24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常規管理性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認知性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聚斂性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擴散性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Century Gothic"/>
                <a:ea typeface="新細明體"/>
              </a:rPr>
              <a:t>評鑑性</a:t>
            </a: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1916280"/>
            <a:ext cx="1008000" cy="0"/>
          </a:xfrm>
          <a:prstGeom prst="line">
            <a:avLst/>
          </a:prstGeom>
          <a:ln w="349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03640" y="3213000"/>
            <a:ext cx="1008000" cy="0"/>
          </a:xfrm>
          <a:prstGeom prst="line">
            <a:avLst/>
          </a:prstGeom>
          <a:ln w="349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39640" y="333360"/>
            <a:ext cx="4969080" cy="5688000"/>
            <a:chOff x="539640" y="333360"/>
            <a:chExt cx="4969080" cy="5688000"/>
          </a:xfrm>
        </p:grpSpPr>
        <p:cxnSp>
          <p:nvCxnSpPr>
            <p:cNvPr id="170" name="_s217093"/>
            <p:cNvCxnSpPr/>
            <p:nvPr/>
          </p:nvCxnSpPr>
          <p:spPr>
            <a:xfrm rot="10800000">
              <a:off x="683640" y="1556640"/>
              <a:ext cx="2105640" cy="40791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71" name="_s217094"/>
            <p:cNvCxnSpPr/>
            <p:nvPr/>
          </p:nvCxnSpPr>
          <p:spPr>
            <a:xfrm rot="10800000">
              <a:off x="683640" y="1340640"/>
              <a:ext cx="2105640" cy="308844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72" name="_s217095"/>
            <p:cNvCxnSpPr/>
            <p:nvPr/>
          </p:nvCxnSpPr>
          <p:spPr>
            <a:xfrm rot="10800000">
              <a:off x="683640" y="1124640"/>
              <a:ext cx="2105640" cy="209628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cxnSp>
          <p:nvCxnSpPr>
            <p:cNvPr id="173" name="_s217096"/>
            <p:cNvCxnSpPr/>
            <p:nvPr/>
          </p:nvCxnSpPr>
          <p:spPr>
            <a:xfrm rot="10800000">
              <a:off x="683640" y="835920"/>
              <a:ext cx="2105640" cy="1105560"/>
            </a:xfrm>
            <a:prstGeom prst="bentConnector2">
              <a:avLst/>
            </a:prstGeom>
            <a:ln w="38160">
              <a:solidFill>
                <a:srgbClr val="99ccff"/>
              </a:solidFill>
              <a:miter/>
            </a:ln>
          </p:spPr>
        </p:cxnSp>
        <p:sp>
          <p:nvSpPr>
            <p:cNvPr id="174" name="_s217097"/>
            <p:cNvSpPr/>
            <p:nvPr/>
          </p:nvSpPr>
          <p:spPr>
            <a:xfrm>
              <a:off x="539640" y="333360"/>
              <a:ext cx="4969080" cy="792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500" spc="-1" strike="noStrike">
                  <a:solidFill>
                    <a:srgbClr val="8b10c2"/>
                  </a:solidFill>
                  <a:latin typeface="Century Gothic"/>
                </a:rPr>
                <a:t>如何優化提問技巧</a:t>
              </a:r>
              <a:endParaRPr b="0" lang="en-US" sz="45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75" name="_s217098"/>
            <p:cNvSpPr/>
            <p:nvPr/>
          </p:nvSpPr>
          <p:spPr>
            <a:xfrm>
              <a:off x="1187280" y="148428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問什麼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76" name="_s217099"/>
            <p:cNvSpPr/>
            <p:nvPr/>
          </p:nvSpPr>
          <p:spPr>
            <a:xfrm>
              <a:off x="1187280" y="27813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6600cc"/>
                  </a:solidFill>
                  <a:latin typeface="Century Gothic"/>
                </a:rPr>
                <a:t>怎樣問？</a:t>
              </a:r>
              <a:endParaRPr b="0" lang="en-US" sz="32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77" name="_s217100"/>
            <p:cNvSpPr/>
            <p:nvPr/>
          </p:nvSpPr>
          <p:spPr>
            <a:xfrm>
              <a:off x="1187280" y="400860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如何誘導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  <p:sp>
          <p:nvSpPr>
            <p:cNvPr id="178" name="_s217101"/>
            <p:cNvSpPr/>
            <p:nvPr/>
          </p:nvSpPr>
          <p:spPr>
            <a:xfrm>
              <a:off x="1187280" y="5160960"/>
              <a:ext cx="2016360" cy="860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如何處理學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9966ff"/>
                  </a:solidFill>
                  <a:latin typeface="Century Gothic"/>
                </a:rPr>
                <a:t>的回答？</a:t>
              </a:r>
              <a:endParaRPr b="0" lang="en-US" sz="2400" spc="-1" strike="noStrike">
                <a:solidFill>
                  <a:srgbClr val="27277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564000" y="1268280"/>
            <a:ext cx="5329080" cy="525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1﹒</a:t>
            </a:r>
            <a:r>
              <a:rPr b="1" lang="zh-TW" sz="26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認清提問的層次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由淺至深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由近而遠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由點到面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由具體到抽象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2﹒</a:t>
            </a:r>
            <a:r>
              <a:rPr b="1" lang="zh-TW" sz="26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不同的提問手法：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	</a:t>
            </a:r>
            <a:r>
              <a:rPr b="0" lang="zh-TW" sz="26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轉換式、選擇式、追蹤式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探究式、比較式、總體式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	</a:t>
            </a: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3366cc"/>
                </a:solidFill>
                <a:latin typeface="Century Gothic"/>
                <a:ea typeface="新細明體"/>
              </a:rPr>
              <a:t>檢查式</a:t>
            </a:r>
            <a:endParaRPr b="0" lang="en-US" sz="22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3</a:t>
            </a:r>
            <a:r>
              <a:rPr b="1" lang="zh-TW" sz="2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﹒</a:t>
            </a:r>
            <a:r>
              <a:rPr b="1" lang="zh-TW" sz="2600" spc="-1" strike="noStrike">
                <a:solidFill>
                  <a:srgbClr val="ff00ff"/>
                </a:solidFill>
                <a:latin typeface="Century Gothic"/>
                <a:ea typeface="新細明體"/>
              </a:rPr>
              <a:t>符合課堂結構</a:t>
            </a: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5661000"/>
            <a:ext cx="1440000" cy="719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設疑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6920" y="5661000"/>
            <a:ext cx="144000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導疑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5661000"/>
            <a:ext cx="143964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釋疑</a:t>
            </a:r>
            <a:endParaRPr b="0" lang="en-US" sz="32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6021360"/>
            <a:ext cx="28728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6021360"/>
            <a:ext cx="28728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llsc12</cp:lastModifiedBy>
  <dcterms:modified xsi:type="dcterms:W3CDTF">2006-06-21T06:27:20Z</dcterms:modified>
  <cp:revision>57</cp:revision>
  <dc:subject/>
  <dc:title>PowerPoint Presentation</dc:title>
</cp:coreProperties>
</file>