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BB4-C43B-4C55-95A9-EC120F6C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A41-5F3C-4B7E-937D-30E8600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52E-E1F2-4A7C-B777-26072BBC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7E8-7074-4A22-B539-79248E54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7B5-A455-4452-B469-2463D0A3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19EC-C22E-444E-A858-DDDD2AC5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55CB-F3D9-4880-AE4E-CCC1889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5463-AC90-49C4-9240-B75859C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AFA-3777-4D78-B7C2-9C76552F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911-4459-4188-A9BD-02451FF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43D-2254-4C13-BD6D-2674EAD4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EF2-EB6F-4B27-B060-AB5B962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63E-04CE-4559-A00C-7E663F2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C9C5-BC66-4DB6-A429-3638878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CBA5-030D-485B-A0D5-16C1AD8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876-202C-442C-A63F-DA9CF591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492F-ACAD-423E-8B63-E143EA97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7F5-C1CD-4A8E-A5EE-9FBB6265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D89-049D-424C-893A-A323E9F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ACE-339F-443E-A673-9296510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1DA-1796-45B7-B4A3-C0BE8C81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047-E2E7-4422-BACC-31817F4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563-A49E-43ED-A2A9-2260EDA4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A0C-61A9-4B2F-8BB6-AD9CD94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325-0872-4E1A-89A4-2E45C2F527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EDA5-5CDA-4E7E-B1A9-A626A040C7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47640" y="668160"/>
            <a:ext cx="59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說勤》的主論點︰說明勤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1700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170172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832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勤出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3376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勤出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653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653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2680" y="4869000"/>
            <a:ext cx="6066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馬克思寫資本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47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48080" y="4941720"/>
            <a:ext cx="72900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希臘演說家的事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07000" y="4941720"/>
            <a:ext cx="72900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宋代陳正之的苦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2000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5440" y="4869000"/>
            <a:ext cx="3934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司馬遷寫史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0160" y="4869000"/>
            <a:ext cx="3934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歌德寫浮士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20960" y="4869000"/>
            <a:ext cx="3934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陳景潤的成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36680" y="4869000"/>
            <a:ext cx="6066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上海女子考上大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46512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4653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6512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1700280"/>
            <a:ext cx="590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12536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184464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8680" y="2781360"/>
            <a:ext cx="60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分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284640"/>
            <a:ext cx="671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07320" y="4653000"/>
            <a:ext cx="667800" cy="1800360"/>
          </a:xfrm>
          <a:prstGeom prst="rect">
            <a:avLst/>
          </a:prstGeom>
          <a:solidFill>
            <a:srgbClr val="66cc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論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76360" y="558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558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07320" y="2421000"/>
            <a:ext cx="667800" cy="180000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論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28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692280"/>
            <a:ext cx="79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280" y="692280"/>
            <a:ext cx="13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說勤主論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16000" y="668160"/>
            <a:ext cx="669780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主論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「敬業樂業」是人類生活的不二法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989000"/>
            <a:ext cx="662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98900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198900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184464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6320" y="263700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有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81040" y="263700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敬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21040" y="263700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樂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16000" y="668160"/>
            <a:ext cx="66978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主論點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敬業樂業」是人類生活的不二法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700280"/>
            <a:ext cx="583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126828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70172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170172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0104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有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104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敬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7804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樂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7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0628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敬的定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8736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敬業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9536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敬業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47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2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808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苦樂成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0700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苦中尋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82000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1680" y="2276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分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49040" y="4508640"/>
            <a:ext cx="60696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分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4437000"/>
            <a:ext cx="360360" cy="21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360360" cy="216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836640"/>
            <a:ext cx="1152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論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213000"/>
            <a:ext cx="1152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論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5734080"/>
            <a:ext cx="1152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535280" y="-927000"/>
            <a:ext cx="431640" cy="583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5445000"/>
            <a:ext cx="4967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人人都要有正當職業，人人都要不斷的勞作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836640"/>
            <a:ext cx="6192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論有業：人必定要有業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29560" y="2205000"/>
            <a:ext cx="12776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據二：百丈禪師的事蹟和說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50880" y="3290760"/>
            <a:ext cx="54612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據一：孔子的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有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692280"/>
            <a:ext cx="503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主論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3213000"/>
            <a:ext cx="5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分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5445000"/>
            <a:ext cx="5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論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427280" y="-1035000"/>
            <a:ext cx="647640" cy="5832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836640"/>
            <a:ext cx="6192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人必須敬業：敬業原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95320" y="2205000"/>
            <a:ext cx="91188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點二：凡業皆可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7280" y="2205000"/>
            <a:ext cx="2009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點一：人生存不是做消化包的機器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48600" y="5445000"/>
            <a:ext cx="67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02320" y="4869000"/>
            <a:ext cx="20098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當大總統和拉黃包車在價值上並無分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6764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764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敬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47640" y="668160"/>
            <a:ext cx="5904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敬業 有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700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6000" y="170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170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170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6320" y="2276640"/>
            <a:ext cx="6069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忠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76120" y="2276640"/>
            <a:ext cx="91188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職業不分貴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1040" y="2276640"/>
            <a:ext cx="6069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分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47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0872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28680" y="4941720"/>
            <a:ext cx="6066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木匠和政治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95360" y="4941720"/>
            <a:ext cx="729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挑糞和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59640" y="47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0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70480" y="4941720"/>
            <a:ext cx="6066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曾文正公的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58360" y="4941720"/>
            <a:ext cx="1277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法國人和英國人的事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82000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4653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8280" y="4869000"/>
            <a:ext cx="42372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莊子的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敬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333360"/>
            <a:ext cx="6476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主論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5157720"/>
            <a:ext cx="5047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論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3068640"/>
            <a:ext cx="57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論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47640" y="668160"/>
            <a:ext cx="5904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業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700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268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170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40720" y="170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3400" y="2276640"/>
            <a:ext cx="1277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苦和樂決定在主觀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8720" y="2276640"/>
            <a:ext cx="10335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要苦中尋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54160" y="4797360"/>
            <a:ext cx="39348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賭錢吃酒一樣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論樂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33360"/>
            <a:ext cx="6476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主論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084640"/>
            <a:ext cx="505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論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3068640"/>
            <a:ext cx="5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論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38720" y="2276640"/>
            <a:ext cx="10335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樂業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68960" y="4724280"/>
            <a:ext cx="39348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孔子的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46:30Z</dcterms:created>
  <dc:creator>Chow Fu Hung</dc:creator>
  <dc:description/>
  <dc:language>en-US</dc:language>
  <cp:lastModifiedBy>Chow Fu Hung</cp:lastModifiedBy>
  <dcterms:modified xsi:type="dcterms:W3CDTF">2006-02-28T02:29:49Z</dcterms:modified>
  <cp:revision>14</cp:revision>
  <dc:subject/>
  <dc:title>投影片 1</dc:title>
</cp:coreProperties>
</file>